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6.jpeg" ContentType="image/jpeg"/>
  <Override PartName="/ppt/media/image5.jpeg" ContentType="image/jpeg"/>
  <Override PartName="/ppt/media/image4.jpeg" ContentType="image/jpeg"/>
  <Override PartName="/ppt/media/image27.jpeg" ContentType="image/jpeg"/>
  <Override PartName="/ppt/media/image30.wmf" ContentType="image/x-wmf"/>
  <Override PartName="/ppt/media/image10.jpeg" ContentType="image/jpeg"/>
  <Override PartName="/ppt/media/image8.jpeg" ContentType="image/jpeg"/>
  <Override PartName="/ppt/media/image25.png" ContentType="image/png"/>
  <Override PartName="/ppt/media/image2.gif" ContentType="image/gif"/>
  <Override PartName="/ppt/media/image13.jpeg" ContentType="image/jpeg"/>
  <Override PartName="/ppt/media/image23.wmf" ContentType="image/x-wmf"/>
  <Override PartName="/ppt/media/image9.jpeg" ContentType="image/jpeg"/>
  <Override PartName="/ppt/media/image11.jpeg" ContentType="image/jpeg"/>
  <Override PartName="/ppt/media/image31.gif" ContentType="image/gif"/>
  <Override PartName="/ppt/media/image17.wmf" ContentType="image/x-wmf"/>
  <Override PartName="/ppt/media/image3.png" ContentType="image/png"/>
  <Override PartName="/ppt/media/image12.jpeg" ContentType="image/jpeg"/>
  <Override PartName="/ppt/media/image7.jpeg" ContentType="image/jpeg"/>
  <Override PartName="/ppt/media/image18.wmf" ContentType="image/x-wmf"/>
  <Override PartName="/ppt/media/image20.png" ContentType="image/png"/>
  <Override PartName="/ppt/media/image1.jpeg" ContentType="image/jpeg"/>
  <Override PartName="/ppt/media/image14.jpeg" ContentType="image/jpeg"/>
  <Override PartName="/ppt/media/image24.wmf" ContentType="image/x-wmf"/>
  <Override PartName="/ppt/media/image28.gif" ContentType="image/gif"/>
  <Override PartName="/ppt/media/image15.jpeg" ContentType="image/jpeg"/>
  <Override PartName="/ppt/media/image16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C6C2-F142-4512-9FA7-1CA6F474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F9D6-B9D3-4BD7-816F-EAE74C34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1B0-29BD-49BE-93FE-61477BD5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09C-C7F7-44CD-8AF2-D501F5E1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82AD-28E2-41E2-A300-4924D096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F129-E268-4695-B73D-85B4E0FB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F6BC-22D5-45FD-AEB2-6FD69CA8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9E6C-ADCF-460B-B5D4-F818E3D2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B8BC-4640-4496-9355-8FF1BC13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FB74-BFE0-4C37-8DA9-F8341C00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5BDD-3AC6-45D6-A652-D45AE0E0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02E4-74A6-4ED7-A68D-C464A333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5091-1949-4EBE-9A26-BD73A53C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9B0A-3F4D-47E8-B93E-DDD80B3C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8F92-4849-41C5-B88D-95735644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19BE-6E53-4C4D-B2F7-1DF8B4D7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42B5-5722-4CCF-8EB2-2988D864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F827-8B68-4D0F-B611-A9A58B41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874-D438-4CC7-B14D-27591D4A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9F3-E879-4603-863E-FC3AB1C7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F4B-83E9-4F0C-AC5B-92CAA34A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8A6-8E39-472C-B72C-EFA7B8FD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3A39-6CAE-4079-BF5F-6DC6486D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181-B789-4FEB-B533-887ACDB2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1259-1916-49D3-B6FF-68F48D9160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EAD2-D4DA-472B-8370-6B0C31B942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file:///tmp/home/.config/libreoffice/4/user/gallery/MSj00748800000%5B1%5D.wav" TargetMode="External"/><Relationship Id="rId4" Type="http://schemas.microsoft.com/office/2007/relationships/media" Target="file:///tmp/home/.config/libreoffice/4/user/gallery/MSj00748800000%5B1%5D.wav" TargetMode="External"/><Relationship Id="rId5" Type="http://schemas.openxmlformats.org/officeDocument/2006/relationships/image" Target="../media/image3.png"/><Relationship Id="rId6" Type="http://schemas.openxmlformats.org/officeDocument/2006/relationships/audio" Target="file:///tmp/home/.config/libreoffice/4/user/gallery/MSSN00628A0000%5B1%5D.wav" TargetMode="External"/><Relationship Id="rId7" Type="http://schemas.microsoft.com/office/2007/relationships/media" Target="file:///tmp/home/.config/libreoffice/4/user/gallery/MSSN00628A0000%5B1%5D.wav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31.gif"/><Relationship Id="rId4" Type="http://schemas.openxmlformats.org/officeDocument/2006/relationships/audio" Target="file:///tmp/home/.config/libreoffice/4/user/gallery/MSSN00709A0000%5B1%5D.wav" TargetMode="External"/><Relationship Id="rId5" Type="http://schemas.microsoft.com/office/2007/relationships/media" Target="file:///tmp/home/.config/libreoffice/4/user/gallery/MSSN00709A0000%5B1%5D.wav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ligh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858000"/>
            <a:ext cx="1600200" cy="1193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32948E-006 C 0.07604 -0.01156 0.15208 -0.02289 0.18889 -0.06127 C 0.22569 -0.09965 0.1868 -0.18613 0.22066 -0.23029 C 0.25451 -0.27445 0.32326 -0.30011 0.39201 -0.32555 E">
                                      <p:cBhvr>
                                        <p:cTn id="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403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4037"/>
                            </p:stCondLst>
                            <p:childTnLst>
                              <p:par>
                                <p:cTn id="10" nodeType="after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39201 -0.32555 C 0.44566 -0.28809 0.49948 -0.2504 0.55087 -0.26844 C 0.60226 -0.28647 0.68889 -0.36 0.7 -0.43329 C 0.71111 -0.50659 0.65938 -0.63376 0.61753 -0.70798 C 0.57569 -0.7822 0.46094 -0.82104 0.44931 -0.87931 C 0.43767 -0.93757 0.49757 -1.05965 0.54757 -1.05688 C 0.59757 -1.0541 0.70451 -0.96994 0.74931 -0.86243 C 0.7941 -0.75491 0.77031 -0.50936 0.81597 -0.41202 C 0.86163 -0.31468 0.98038 -0.3059 1.02361 -0.27815 E">
                                      <p:cBhvr>
                                        <p:cTn id="11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5897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5"/>
                </p:tgtEl>
              </p:cMediaNode>
            </p:audio>
            <p:audio isNarration="0">
              <p:cMediaNode showWhenStopped="1">
                <p:cTn/>
                <p:tgtEl>
                  <p:spTgt spid="86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ir takes up space which means it can move, and we move it out of the way when we mov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ut, does air have ma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638680" y="3886200"/>
            <a:ext cx="2667240" cy="2541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295200" cy="457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858000" y="2819520"/>
            <a:ext cx="1523880" cy="1170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086600" y="2895480"/>
            <a:ext cx="10666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Why is this so heavy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It’s just air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5"/>
                                      </p:cond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has ma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 the atmosphere above us, there is a lot of ai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re is about 5 200 000 000 000 000 tonnes of air surrounding the pla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ir pressing on our shoulders right now weighs about 900 k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air’s mass above us, in the atmosphere, exert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ss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everything, in every dire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y don’t we feel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324480" y="40384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y don’t we feel air pressur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en two opposing forces push on each other with equal power, the forces are in equilibr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f you sit in a hammock, gravity pulls you down, but what holds you up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hammock is pushing against gravity with equal fo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095880" y="4903920"/>
            <a:ext cx="25909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pposing forc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en one force becomes stronger that the other, unequal force occurs and acceleration is the resul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you piled weights on the hammock what would happen?  The force of gravity would be stronger that the opposing force of the hammock and you would accelerate towards the groun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248520" y="5365800"/>
            <a:ext cx="1977840" cy="1492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705720" y="5334120"/>
            <a:ext cx="1160280" cy="925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477120" y="4800600"/>
            <a:ext cx="1160280" cy="925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6781680" y="4876920"/>
            <a:ext cx="1160640" cy="925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0880" y="4800600"/>
            <a:ext cx="525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bodies push outwards with the equal force of the air pushing on us so we don’t notice the air pres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" nodeType="after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pressu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re is a concentration of air molecules, there is high air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re is very few air molecules, there is low air pressur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nk of a tire.  When it’s full of air, it has high pressure (lots of air).  When it’s low, it doesn’t have as much air in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400800" y="4876920"/>
            <a:ext cx="1441440" cy="17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Pressu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ir around the world is made up of areas of differing press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pressure wants to be in balan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200400" y="2743200"/>
            <a:ext cx="2428920" cy="3733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327672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ide the balloon….. High air pres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3886200"/>
            <a:ext cx="1523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457200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side the balloon…… Low air pres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952880" y="5257800"/>
            <a:ext cx="13716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Pressu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member, an area of high air pressure means there is a lot of air molecules, and low air pressure means there is very li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861048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Pressu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re are areas of high and low air pressure, the high air pressure will flow to the low pressure are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081160" cy="3200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505320" y="365760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high pressure air inside the balloon wants to go to the low pressure area outside the ballo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pressu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reas of high air pressur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lway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flow into areas of low air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38080" y="2666880"/>
            <a:ext cx="7467840" cy="3630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133720" y="62485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right, Mr. Savoie is an awesome artis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7e7ff"/>
                </a:solidFill>
                <a:latin typeface="Arial"/>
              </a:rPr>
              <a:t>Fligh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ople have dreamed about flying forev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2286000"/>
            <a:ext cx="4762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pressu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ir is heated, air molecules move faster.  When they move faster, the molecules become spread ou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ed air has low air pressur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air pressure has less molecules, so it is lighter than high air press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pressure air floats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086600" y="7010280"/>
            <a:ext cx="1430280" cy="1524240"/>
          </a:xfrm>
          <a:prstGeom prst="rect">
            <a:avLst/>
          </a:prstGeom>
          <a:ln w="0">
            <a:noFill/>
          </a:ln>
        </p:spPr>
      </p:pic>
      <p:sp>
        <p:nvSpPr>
          <p:cNvPr id="154" name="Cloud"/>
          <p:cNvSpPr/>
          <p:nvPr/>
        </p:nvSpPr>
        <p:spPr>
          <a:xfrm>
            <a:off x="380880" y="708660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733920" y="7010280"/>
            <a:ext cx="150336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12139E-006 C -0.00225 0.02197 -0.00434 0.0437 5E-006 -0.01664 C 0.00435 -0.07745 0.03507 -0.26312 0.02553 -0.36347 C 0.01598 -0.46335 -0.05052 -0.52439 -0.05712 -0.61734 C -0.06372 -0.70982 -0.01685 -0.83722 -0.01423 -0.9193 C -0.01163 -1.00162 -0.04358 -1.05017 -0.04115 -1.1119 C -0.03872 -1.17318 -0.00782 -1.25179 0.00087 -1.28855 E">
                                      <p:cBhvr>
                                        <p:cTn id="284" dur="5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-2.65896E-006 C -0.01997 -0.12324 -0.03976 -0.24624 -0.03976 -0.35098 C -0.03976 -0.45549 -0.00139 -0.53641 8.33333E-007 -0.62774 C 0.00138 -0.7193 -0.03247 -0.81826 -0.03177 -0.90058 C -0.03108 -0.98243 0.00434 -1.06358 0.00468 -1.12023 C 0.00503 -1.17688 -0.01268 -1.20878 -0.03021 -1.24069 E">
                                      <p:cBhvr>
                                        <p:cTn id="286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38889E-006 -4.62428E-006 C 0.00712 -0.0978 0.01441 -0.19537 0.00469 -0.29202 C -0.00503 -0.38867 -0.05885 -0.46682 -0.05885 -0.57942 C -0.05885 -0.69156 0.00521 -0.84786 0.00469 -0.96601 C 0.00417 -1.08439 -0.04792 -1.22173 -0.0618 -1.28901 E">
                                      <p:cBhvr>
                                        <p:cTn id="289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638680" y="-990720"/>
            <a:ext cx="1067040" cy="709560"/>
          </a:xfrm>
          <a:prstGeom prst="rect">
            <a:avLst/>
          </a:prstGeom>
          <a:ln w="0">
            <a:noFill/>
          </a:ln>
        </p:spPr>
      </p:pic>
      <p:sp>
        <p:nvSpPr>
          <p:cNvPr id="157" name="Cloud"/>
          <p:cNvSpPr/>
          <p:nvPr/>
        </p:nvSpPr>
        <p:spPr>
          <a:xfrm>
            <a:off x="8001000" y="-838080"/>
            <a:ext cx="914400" cy="612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….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lain the following in a paragraph in your note boo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you think there is wi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086600" y="2895480"/>
            <a:ext cx="1413000" cy="1447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56647E-006 C 0.00816 0.0867 0.0165 0.17341 0.01598 0.26844 C 0.01546 0.36347 -0.0052 0.45063 -0.00312 0.57063 C -0.00104 0.69063 0.02709 0.88416 0.02865 0.98913 C 0.03021 1.0941 0.01823 1.14728 0.00643 1.20069 E">
                                      <p:cBhvr>
                                        <p:cTn id="300" dur="5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2" nodeType="after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6 8.72832E-006 C 0.0007 -0.01179 0.00139 -0.02358 -2.77778E-006 0.03168 C -0.00139 0.08671 -0.0151 0.19677 -0.00798 0.33203 C -0.00087 0.46706 0.03733 0.68972 0.04288 0.84116 C 0.04844 0.99284 0.03681 1.11677 0.02535 1.24093 E">
                                      <p:cBhvr>
                                        <p:cTn id="303" dur="5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1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038480" cy="3522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81280" y="3352680"/>
            <a:ext cx="51055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Early designs for aircraf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4191120" cy="315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191120" y="3581280"/>
            <a:ext cx="457200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5943600" cy="2324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5105520" cy="250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597560" y="2819520"/>
            <a:ext cx="4546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6160" cy="5495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572000" y="762120"/>
            <a:ext cx="45720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4572000" cy="4826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895480" y="3911760"/>
            <a:ext cx="594360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7e7ff"/>
                </a:solidFill>
                <a:latin typeface="Arial"/>
              </a:rPr>
              <a:t>Finally, in 1903 . . 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749304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can’t see, smell, or taste air, but air is everywhere and it is needed in order to f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es air take up spac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57800" y="3048120"/>
            <a:ext cx="1711440" cy="2895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010280" y="3200400"/>
            <a:ext cx="1676520" cy="1285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238880" y="335268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Umm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 dun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9:35:44Z</dcterms:created>
  <dc:creator>Teacher</dc:creator>
  <dc:description/>
  <dc:language>en-US</dc:language>
  <cp:lastModifiedBy>nbdoe</cp:lastModifiedBy>
  <dcterms:modified xsi:type="dcterms:W3CDTF">2007-05-15T14:08:01Z</dcterms:modified>
  <cp:revision>24</cp:revision>
  <dc:subject/>
  <dc:title>Flight</dc:title>
</cp:coreProperties>
</file>